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0B3D-9998-4A62-AC2B-9BA30C5F9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C4E3-A3E4-460D-BDAD-B48D3353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9782-3C57-4BDD-B08F-091335914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5EC6-23D6-4B53-B2C1-FD8B401B7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4947-84DE-4424-A604-D4E2CAA7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9E83-CC81-4B66-A650-DFABAE47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9859-69D2-481E-8D8C-CC9E7D8D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FA6C-765F-4E9D-BA45-099FAB3C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59C0-2525-46AB-B159-2572C1FF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ACA8-6B42-429A-AA18-7B609CDC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D8B4-FB68-4B48-8639-475625A9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BD41-1F7B-4F28-8BF8-214F4E4A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9DBC-2AE7-4260-9C0F-F9A84A55001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68AB-FB91-4B0C-877D-34CE37DE4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44B2-9361-4BAC-BF3E-C18E898C2E8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C447DA-C47D-489A-A1E5-AF38EDECDC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3" idx="4"/>
            <a:endCxn id="104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4" idx="4"/>
            <a:endCxn id="109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4" idx="4"/>
            <a:endCxn id="108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9" idx="4"/>
            <a:endCxn id="114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7108-127A-4A05-BCB1-B034231708C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A1560-2708-42BA-A3D9-4B91C1B79C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02AF-C72F-4BA7-A38A-472D43EFBEC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20E28-ADD5-4FD5-A719-7CBFDB84B6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D0F7-1F99-46C3-8EB7-01BEBCBF618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629BA-A527-4E2D-A16D-7A1EFE8EEA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2232-92E1-4418-B546-EA8CAD8762E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F7C43B-83C0-44E8-BB9E-5944D99938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” indicates to compiler that obj is statically ty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AFE1-5153-4C88-96A0-A007AEE39A9E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B8F6FC-4771-49AB-B196-0DACF68085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- allocate and de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bject is created in a memory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1570-3B11-491F-ACCB-69F902690CB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7FEEE3-3161-4190-9BA5-DADBEEEADE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BC2D-16D6-41BB-82DE-1EAC1F29142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DCC6B-B5E0-4664-9092-93F68C185C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649600"/>
            <a:ext cx="5791320" cy="3207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DBF1-54CF-4B29-AE35-AD6D427C834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F592C-C36D-4983-BE0B-02AA97D7C3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5E79-C264-46FC-83F2-935DBF8351C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FE6D5E-E112-4FCE-AC3F-F5574E84D1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215F-5C8B-436A-9257-7AFE40F779D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5A3A8F-1D4F-4104-9A3C-B79CBE81A7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 (object returned o.w. not val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E8A3-A275-41EA-BA49-3091817F844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FB222C-4FDA-49BA-A065-FE7D09ECCB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E9BC-6892-4A5D-8AF5-388702BFF11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9CC788-50A5-41AB-BB17-54CCC978F5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9C24-C575-4C3C-9FCE-DD3658DF8CF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C00D4-D3D7-4FB0-A035-6B9C75CD12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56A6-3AE4-45B3-A53A-24D8B282A42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DABEA-3FE5-4BA1-A497-A1FD1549A6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3"/>
            <a:endCxn id="222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1" name=""/>
          <p:cNvCxnSpPr>
            <a:stCxn id="229" idx="3"/>
            <a:endCxn id="223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2" name=""/>
          <p:cNvCxnSpPr>
            <a:stCxn id="228" idx="3"/>
            <a:endCxn id="224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DDE4-F1E9-4BB7-8D58-2111B51D471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262D4-F58D-4C95-ABF1-20392FEEBA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D730-CB40-412A-8F37-9D58AACCFD3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6417A7-2FDE-4283-B49C-E279314002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E716-A88C-49A8-AD53-E0BF692BDC5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5955A4-6709-423E-8568-4EB7CE9817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4D57-44CE-498A-BC56-4D2D35817B2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188FED-6194-49F4-B9C9-5D5CE91209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6093-CD94-4974-B42F-CA859386EEA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772BE-89CC-4D6B-B028-3EC7618D17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 and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ow have a collection of agents - 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now takes as target the collection object - a List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lection object passes on the message to each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buildAction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Actions = [ActionGroup create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ForEach: bugList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message: M(step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To:  reportBug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message: M(report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Schedule createBegin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setRepeatInterval: 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modelSchedule createEnd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at: 0 createAction: modelActions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sel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0569-9956-4F2D-9F78-8101A72F0074}" type="slidenum">
              <a:t>2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F26657-02FA-4E4D-B766-50D3B9D74A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grid holding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990F-76E8-400E-91DA-243F532D1A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6C9D0-11B2-45E3-B0F6-01BE0D5E46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6DFA-0F5E-4A62-B9E9-17D0C472640C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45593F-32DD-4D74-B1F4-A70700D066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9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6" idx="0"/>
            <a:endCxn id="313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0" name=""/>
          <p:cNvCxnSpPr>
            <a:stCxn id="317" idx="0"/>
            <a:endCxn id="314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1" name=""/>
          <p:cNvCxnSpPr>
            <a:stCxn id="318" idx="0"/>
            <a:endCxn id="315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2255-D3F1-4C34-B4E0-A165D1682BC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5FFCD2-96B7-4D4A-B77E-230560F1D9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E530-7084-4BAB-9783-69EE6B84943D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8B50F0-EDF7-4104-9D76-7E06FCE5BC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85C0-1E4E-40D5-A651-7AB354AF3B2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873CA3-A6A7-4B8B-AD86-EEACCB4757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7080" y="4114800"/>
            <a:ext cx="2971800" cy="7621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dfaced i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plac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4AF2-3F57-45C5-8A7D-A18252FE813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D034E4-C24B-4F66-AB4B-9BF3167808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8543-799C-4D77-AD38-692B703C367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1D0135-2A6F-40DD-BF4B-1530BD6A1C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C532-2396-4015-A7E7-22EFE4EB96A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572E3-07E3-4356-9868-B1763A7BF7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6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3" name=""/>
            <p:cNvCxnSpPr>
              <a:stCxn id="362" idx="1"/>
              <a:endCxn id="360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60" idx="7"/>
              <a:endCxn id="361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5" name=""/>
            <p:cNvCxnSpPr>
              <a:stCxn id="362" idx="6"/>
              <a:endCxn id="361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6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272E-2FD2-4572-8588-86CF4EC533DD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C17A8D-59CF-4950-8106-90FD094DB1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endCxn id="388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7552-CAD8-4FDC-A7AB-30572C1D5ADE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2CE8EF-6C67-424C-9256-20C69719B5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428E-FB64-41B4-A67B-F9B62110E18C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1CF48-37A2-40E8-8CE7-0A3927DFD1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49B8-487A-447C-B55E-65BD91E9A8E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B7F2D-6436-41E2-8C9B-1D4EE07B50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F223-1D56-49DF-8FC1-0EA4AB1CAE82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8336A-584F-4050-9D49-3F5AC24D08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6" idx="1"/>
            <a:endCxn id="420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stCxn id="413" idx="1"/>
            <a:endCxn id="423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2"/>
            <a:endCxn id="412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0" idx="3"/>
            <a:endCxn id="412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4"/>
            <a:endCxn id="418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BE61-26E7-495B-A22B-51D2EB72F022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9B852-CD8E-4048-93D8-F33DFB2510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4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6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9" name=""/>
          <p:cNvCxnSpPr>
            <a:stCxn id="467" idx="1"/>
            <a:endCxn id="457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70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341F-E5DB-4053-8B6E-E2AA2FF4AD36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1ECBF-B78C-4F91-BDD7-4304CAA895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3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4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Variabl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1790-E946-4BF7-89FD-6316BE87920E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92F87-A945-4E2F-81AE-4A001A2D68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76A9-9615-456B-891B-6058B99DDE2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B0612E-AC27-43C7-B34D-EAE60CAA02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499" idx="0"/>
            <a:endCxn id="494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9" idx="2"/>
            <a:endCxn id="497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09" idx="2"/>
            <a:endCxn id="501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7552-6388-4728-AF58-54ECD75D22E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EEA0E-7DA7-4786-ACF2-50253630B5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then call [probeDisplayManager createProbeDisplayFor: modelSwarm] in Obser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2819-0BD3-4440-88FC-50955636E2B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E96AAD-4561-4984-9EB1-626B05C885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5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2CE0-259C-429F-812F-2F9312FABEB6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848FE1-929F-443B-B5E5-EB6FA71A0F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3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9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5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6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CE2E-75EE-4C17-BAA0-74E2D9FD983F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794732-5609-4E46-8D33-ADE7DBFE71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9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5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4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60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9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CD70-4EBF-4754-AB0E-64117946FF60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DA3415-EF12-434A-9B5F-4BFE3A5E70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6365-F7E6-47F7-A431-F2B38DF31746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3B4A9-2ED1-4F4B-867A-0693C76913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AD2C-A890-4EDD-A15B-60AE0B0250FE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2D65B-0055-438D-90D4-5652023F31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,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3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4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C7AC-DA80-47DE-A286-9BCE0F4268D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955C35-3806-4EF9-BD50-45885FDA03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D71B-8188-41D4-94AA-C1FBE34839E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386DF9-6CA6-4710-8F1A-5355A0FA3A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AE9D-0E63-4C88-AD06-0EE4EE1E7D8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A2171F-1AAC-4D6A-8478-7BBC291E66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 and 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2838-5BC3-42F5-B571-CF7398D3C46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2EA096-5556-45AE-B13B-E8178C7AD0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Office</cp:lastModifiedBy>
  <cp:lastPrinted>1998-03-18T02:24:41Z</cp:lastPrinted>
  <dcterms:modified xsi:type="dcterms:W3CDTF">1999-04-02T03:46:11Z</dcterms:modified>
  <cp:revision>41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