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2D004-73D4-4187-9E87-20AC1E24CF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5221A-E8F7-4471-9A4D-5000F76D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358C-EDBF-4E0C-A5DA-868C32DF9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D057D-A4CC-4DC6-92B7-F98CA2D19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4EEE-D46D-4480-9BEA-B0D1DEE91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EF62-7B38-4DE0-888F-F5543DB76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70D57-4F11-4CA6-81B9-DA6A42A9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DF834-28C0-4027-B935-9A33B498F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F212B-BEA7-445E-9CFD-FDC6051DE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A1846-B808-47BD-A17D-627CD8252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544A5-90C9-4B1C-B133-76DD04EE1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D1177-39A2-4162-A851-14A7AE8D0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BE8FF3-4958-4BE5-BD43-488ADE73EE7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optional­hyphen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9T16:27:12Z</dcterms:created>
  <dc:creator>Michael McCandless</dc:creator>
  <dc:description/>
  <dc:language>en-US</dc:language>
  <cp:lastModifiedBy>Michael McCandless</cp:lastModifiedBy>
  <dcterms:modified xsi:type="dcterms:W3CDTF">2011-09-09T16:28:28Z</dcterms:modified>
  <cp:revision>1</cp:revision>
  <dc:subject/>
  <dc:title>optional­hyphen </dc:title>
</cp:coreProperties>
</file>